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634-3C41-4070-B3CE-DEBBC7CF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09C-50EE-448E-A6C0-EEECD89F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C82-83F9-4B9B-B1EA-D6B43B7F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5957-3FE2-4B4F-BCA5-0200A34B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BA3-1A25-4B93-A937-33AEC831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2323-92CD-484A-8CA7-E68C1A3C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E3C-4932-4312-A445-3C9D959EA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6C37-067D-48A4-A6D0-3C13950D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232-A5AC-4C93-AEA2-C66BB9D6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1BC-C65D-413E-AD84-851B998F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530-0B7B-4D11-8D2D-448B1475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0AB-9553-40EC-9DD9-9E1DA5FF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D47E-65EB-4F11-A7CC-DEDBF267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C11-8936-442A-8211-F46962AF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768-0FF6-4538-B10D-515A2995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CFCD-E5AD-456F-B69B-BC51B443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FA7-7DC2-4C77-84FC-DBDA62AF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279-1297-4E88-8994-A981A693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7553-292A-4BA8-ABE2-E2EB95DB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A20-51B7-435E-859B-65A97030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6726-1D16-45E1-912A-D2478779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022-6046-4A9C-AEC0-026339A4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B91-1B2B-4C00-A743-253FB7E5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D4F7-F678-4F59-B192-326D28D8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DE70-6034-4F75-AB90-6B9E5620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81BE-D4F9-462D-9633-6D0893CF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576D-6277-42D7-9FED-F677AAB3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678-9BE6-45C9-8FEE-3DD363FB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E5A7-F419-4A5C-95AD-A23987D3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0B8D-80F4-4111-A783-638AB2E5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E1E-8CF5-4A8C-A6BF-42DBD1ED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B6E-27FE-44B3-95A6-7D611601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953-E737-49FF-BE9B-34A140707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3A5-6695-4C92-BAA1-FE1BE3DA2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F48D-739B-4AAF-9FC7-9FE05F77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8140-1366-4A0A-970C-9590E63D6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80B3-421B-4FA6-9BB7-92D31525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8776-4D0E-4E29-931C-D9C20DEC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951D-470C-4F4B-992A-EA1C8C2B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564F-34E5-43DA-A439-B5C593F6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4D7-F455-477C-9BDC-1672F6B0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4F3B-DF66-4B85-9B45-90E70ED8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241-BD95-4FD0-BB05-0EF7A10E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8B0-E02D-4E70-86E5-FC472840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3C9-CDB0-48BC-A1F5-902701EE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1ED-D55C-419D-83BF-BE16ADF5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B0E-6DD8-4DD8-9E42-57315937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CE35-119B-4125-AB64-D3968008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13E-ED3E-4B27-A489-6AD27EE1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51B1-CCCE-4A03-AEB7-3275771D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5F4-253D-402C-9D51-4310FACE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891-545A-4135-8873-387EAE0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8BC-56A0-40C1-9965-0773C4A4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EC9-A430-4986-96F2-BE95EC82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168-0372-49EA-AD18-D8C9757E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1746-F0E6-4970-93A6-1B2BA6A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7BB-8B56-4190-BC9B-F2CA842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45E5-A338-4BC7-87BE-B97E158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EC0E-0392-4D1A-BEE7-02A84608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249-981D-4E85-B703-BA4D8BF7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2E5D-1D9E-4EB6-84AF-41E7A84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A49-C19A-4D2A-97D4-8B0184FF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C786-D5E3-450E-92AB-1C99AEE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315-9279-4E18-BA9F-8B7D2E4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CC3-50A0-4BAC-9E43-E911FDCB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8D5-5FE6-4A67-95E5-2DEE58B8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4DE-E365-49CD-B22F-9D1992F8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926D-01FE-4324-8925-5346CF20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5425-C2D6-4AA5-9112-F18C4B9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E564-A107-4CFD-8E3F-2949706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9303-DE6F-4A4E-97D3-C9C00C0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A846-2F90-4855-A215-4996500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45A-F2BD-45BC-A406-1CD9174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A759-6BDC-4BEF-88FD-DE21A4D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7BB1-651C-4B4F-BCE3-351FA49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8ABD-1CDB-4BE0-95C2-662ADEC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467B-52FA-47A3-A27D-32EF39D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9926-E105-4ABB-BBD4-A2BAA7A2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4F55-E2C2-4D1C-AD42-29E6F1F8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26AE-54D7-430B-A88D-45B2B3AD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8799-ADDC-47B6-84B3-6E778785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B2EF-61B0-4C39-B9FF-7EC3CBDA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7EEE-66D4-4752-AB6B-C5DCC6F6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A7A-39DF-4329-BA97-DBC6C1E4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D75D-F6CB-474F-862C-14B359DD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3643-DED6-4A47-8F40-4463F9D4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046C-BD65-46B0-B266-B081813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2E9AF-6500-4D9E-AE75-2B86479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C511-F240-4E4A-824C-CF02CBA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7BBC-6A05-42FC-B1B0-E8BFE8A2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F66E-BF34-4027-BD8F-02BA68CB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109E-7BD9-4583-A244-5D308C74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7600-FF3E-46B0-BBE0-05700D66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059-B495-46FF-9688-3DD4F953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E0F-C868-4E8D-A4D5-C1A7229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115-4A25-4434-858F-BA4D167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147-FC52-474D-8F54-B728683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8D3-A5E8-4181-9B73-BF4C084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234-D3BA-4EE4-A0F7-FF812A08C0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7A9-A33C-49A1-B263-4586C7B99A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8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90F3-2947-49A3-A4A4-28719E2ADB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F28-59A1-4A21-A8A0-8947E470FA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81000" y="26733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in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564000" y="1521000"/>
            <a:ext cx="380664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 Sess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708360" y="4976640"/>
            <a:ext cx="3807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562-D4D7-48C4-92CA-02E8BD28C6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4DD-8B90-4820-88EB-E0CE032A16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this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2D8-07DB-4108-84DE-25498DF3B5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990720" y="22096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253-2470-4596-BF2F-CE28FA0442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22860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C7A9-0AF4-45DF-B842-58C03EC9BB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41480" y="198108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811-0C26-4A1D-9480-9F2BF8A21D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A9D-7B9D-45D6-BFE3-3B60C1C266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141-9883-4781-A689-D35CEBE28E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8877-0F04-48FF-9995-8C0CC45961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55E-3DB2-4C56-A012-66456F13D1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4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40A1-F5A6-4060-9A33-625A38DBC5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6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0991-D723-4E0B-A83F-A6D9A2DD92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F48-4628-43AB-A698-B36E238C3F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9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B32F-5E78-498F-A639-A4BE1259E4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5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D9EE-68AC-4F1A-A875-EDBA527BD0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7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D5A-279B-48C8-B1F3-FA1D5AB1A8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9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066680" y="220968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I figure out terms 3, 4, 5, and 6 might be very different from the way I figure out term 100 because…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D365-3EE0-48DE-A92D-08E342C877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3E4-E9EA-4781-88E7-E28660B069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165-8E18-4443-87E9-883054BB9E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5C0B-BBB5-45C9-A86F-B60E504215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neralized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1D52-ADCA-4AFF-A7F2-835BCB582A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 it may, on first blush,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867E-F312-491A-B705-0830B252B5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8797-2E91-4D20-9044-E3C29B8C54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- communication, reasoning, connecting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7633-0D94-4BB5-A789-8DBC96B729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57200" y="1905120"/>
            <a:ext cx="868680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) highlight different 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haviours and can serve different purpose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D00-049A-4747-AF69-D3F37435EC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ich processe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19051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m embedded?  &lt;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embed gears picture&gt;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0CCB-0E5E-4C4C-85C5-1452CE0EE0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19320" y="190512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9720-2E42-4B93-BA48-1B8822F2D1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2193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E91-C647-472C-B8C4-B0921E91A2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D613-30F7-4B6D-9620-B434537A83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CF1-DBB5-43CA-830F-5A5E60F8BC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682-379F-4062-BFC6-CB0D7FD378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1828800"/>
            <a:ext cx="741708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 (through grades and within grades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(why explicit for kids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C2E7-F66D-44A7-9079-EE4BCB849A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choose an appropriate lesson goal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A86-7C4E-4355-B598-C3C2CEE853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42920" y="20145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0570-FADE-4179-8586-CDB4C27845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FB9-98DC-498C-B297-64133157A9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D2D0-58D8-43B3-B735-9F0F30EEDE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6CED-612A-401C-9509-AC7B083443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549-B148-4666-AD14-CD9825C2E6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B19D-C61E-4547-8AB8-443E52E1A9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343-C065-419D-B329-21F09F45D7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1.5 in disguis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775-BD55-4BD0-90D6-3CD804CE89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59092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1.5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A75-47DA-4B9E-8836-DE667706D6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066680" y="25909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EF03-CF73-457E-81D0-677FDBFB72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066680" y="1981080"/>
            <a:ext cx="741708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070-0FBF-45C2-871A-7435FCAC05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7AC-1A3F-4B65-9224-E5D3BD3392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pecificall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useful to write the table of values where the independent variable increases in a consistent way, but you don’t have to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3C6-3247-4802-B955-126E2DEA22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073-2337-4B60-95B0-46CA0BBD95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5659-E3EB-442B-AA97-2DDCE9F7C3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1AD4-EFC2-43AC-8CB6-408F131A61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4A9E-9CEA-48D8-919B-04904DD907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307-58B2-4364-9721-A453F9982A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346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257-2C96-47A5-8C22-502E7E7B51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066680" y="198108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848-3311-4278-872C-B33BD8730E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my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57D-1ED6-4F16-B916-DB60932241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8954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A00-054F-4D7F-8D3F-E7C19CE6F4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5BD-D42C-4639-A72F-0067AE7709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0:50:05Z</dcterms:created>
  <dc:creator>Anne &amp; Rod Yeager</dc:creator>
  <dc:description/>
  <dc:language>en-US</dc:language>
  <cp:lastModifiedBy>Marian Small</cp:lastModifiedBy>
  <dcterms:modified xsi:type="dcterms:W3CDTF">2009-07-16T13:09:33Z</dcterms:modified>
  <cp:revision>230</cp:revision>
  <dc:subject/>
  <dc:title>Slide 1</dc:title>
</cp:coreProperties>
</file>